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63270"/>
        <c:axId val="29734360"/>
      </c:barChart>
      <c:catAx>
        <c:axId val="26763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34360"/>
        <c:crosses val="autoZero"/>
        <c:auto val="1"/>
        <c:lblAlgn val="ctr"/>
        <c:lblOffset val="100"/>
        <c:noMultiLvlLbl val="0"/>
      </c:catAx>
      <c:valAx>
        <c:axId val="29734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63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F3B-0EDC-4EA8-BF06-6A992E87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1DF-72CE-4B43-89D6-D5FE30C9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A7C-F9A9-49FD-8953-A4FB3963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FA3-E860-4955-B2D2-02620ABE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5CB-45B2-44D5-A9B0-102570AC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437-2FC4-47C0-AD0F-6A1FFBF9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4E9-BD49-4A6A-AAFB-0856E2EF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FDA-563E-4528-AEB1-ECE42B58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A84-6297-43C6-AD47-5019A4D3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51C-D442-4E9A-8E1B-5F2FB620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B00-A9F2-4CF6-BC2A-ED754A0B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7D5-942F-4934-BB63-29EBE201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9A408-E1BF-47B2-A427-2E4F15799E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